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54B-4464-46CB-BEC2-7AEA477B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B21-8C2F-49D1-8EAE-D3C4BAA6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C60-D7B2-43D4-B4CB-21F408BB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714-E7A3-407E-853C-AD5824A5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8E8-97BD-4C30-A327-BEAB8889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015-1345-4F7D-BB60-EFF2322B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3F2-8EAE-467E-9BE7-E05E4011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C9A-E60F-41D9-9622-02EB877C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791-2FF7-40B1-81B3-ACEEAF82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77B-52AB-4757-99EB-3105F54C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132-7891-402C-9B67-792687C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23A-FDEA-4005-8A50-D400605D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E17D-4E29-404B-9A58-2548069F4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9xQRiyRyaRq_ph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191120" cy="9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حلى السجود أم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شد بالعود لجلا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للي دفعت فيَّ أغ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أث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ما قبلتك ربي، صار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ي السلط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إنت بترعى حياتي بكل حن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8759475AFNWUZafbD_ph" descr=""/>
          <p:cNvPicPr/>
          <p:nvPr/>
        </p:nvPicPr>
        <p:blipFill>
          <a:blip r:embed="rId1"/>
          <a:stretch/>
        </p:blipFill>
        <p:spPr>
          <a:xfrm>
            <a:off x="0" y="-100080"/>
            <a:ext cx="4876920" cy="695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457200"/>
            <a:ext cx="396252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صوتي ليك حيعلا بهتاف أناش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لأنك عايش فيّ، أيامي 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بتغني حياتي جنبك بالموا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6574917mhMQwO_ph" descr=""/>
          <p:cNvPicPr/>
          <p:nvPr/>
        </p:nvPicPr>
        <p:blipFill>
          <a:blip r:embed="rId1"/>
          <a:stretch/>
        </p:blipFill>
        <p:spPr>
          <a:xfrm>
            <a:off x="394956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58128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ا عزي بيك وفخري، وما ليّ سو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سراج لرجلي كلامك وماشي ور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على أيامي يا ربي ما يسود إل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06:39:56Z</dcterms:created>
  <dc:creator>SUZANNE.MD</dc:creator>
  <dc:description/>
  <dc:language>en-US</dc:language>
  <cp:lastModifiedBy>USER</cp:lastModifiedBy>
  <dcterms:modified xsi:type="dcterms:W3CDTF">2002-12-31T13:42:02Z</dcterms:modified>
  <cp:revision>2</cp:revision>
  <dc:subject/>
  <dc:title>PowerPoint Presentation</dc:title>
</cp:coreProperties>
</file>